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5D9-E0C6-48AA-93B3-10A5E249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4A0-8E67-4015-9A32-B9140B91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6B5-D7DB-46EF-A6C5-00B1DDDB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467-01E7-4614-AEE9-B7BA6EC9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D69-9452-489A-9BBD-4190CCA4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1D5-8AED-4F48-9E87-BA0F32AC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841-F6B3-4973-AA95-44B1681C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C46-F0DF-4954-BCB1-42428C95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E94-F2FE-41E4-A39F-AB57DE48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64C-A976-41BD-890A-B5045F9B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745-0A68-4998-A89E-6A424061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4FE-8290-40D7-BCC3-1EB95B68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CE77-C3AC-4AC5-A963-6CB14033E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42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6308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116000" y="476280"/>
            <a:ext cx="7129440" cy="1079640"/>
            <a:chOff x="1116000" y="476280"/>
            <a:chExt cx="7129440" cy="1079640"/>
          </a:xfrm>
        </p:grpSpPr>
        <p:pic>
          <p:nvPicPr>
            <p:cNvPr id="46" name="Picture 13" descr=""/>
            <p:cNvPicPr/>
            <p:nvPr/>
          </p:nvPicPr>
          <p:blipFill>
            <a:blip r:embed="rId4"/>
            <a:stretch/>
          </p:blipFill>
          <p:spPr>
            <a:xfrm>
              <a:off x="1116000" y="476280"/>
              <a:ext cx="17575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"/>
            <p:cNvPicPr/>
            <p:nvPr/>
          </p:nvPicPr>
          <p:blipFill>
            <a:blip r:embed="rId5"/>
            <a:stretch/>
          </p:blipFill>
          <p:spPr>
            <a:xfrm>
              <a:off x="3060720" y="974880"/>
              <a:ext cx="5184720" cy="46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395280" y="2924280"/>
            <a:ext cx="8137440" cy="28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X Reunión Plenaria RedVITEC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Universidad Nacional de Santiago del Estero</a:t>
            </a:r>
            <a:r>
              <a:rPr b="0" lang="es-MX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29 y 30 de Mayo del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Dra. Andrea Guraiib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139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630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404640"/>
            <a:ext cx="792180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HOMENA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90 ANIVERSARIO DE LA REFORMA UNIVERSITARIA DE 191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POR MÁS Y MEJOR EDUCACIÓN PÚBL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Si no existe una vinculación espiritual entre el que enseña y el que aprende, toda enseñanza es hostil y por consiguiente infecun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Toda la educación es una larga obra de amor a los que apre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El chasquido del látigo solo puede rubricar el silencio de los inocentes o de los cobar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La única actitud silenciosa, que cabe en un instituto de ciencia, es la del que escucha una verdad o la del que experimenta para crearla o comprobar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ifiesto Limin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144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2 Marcador de texto" descr=""/>
          <p:cNvPicPr/>
          <p:nvPr/>
        </p:nvPicPr>
        <p:blipFill>
          <a:blip r:embed="rId3"/>
          <a:stretch/>
        </p:blipFill>
        <p:spPr>
          <a:xfrm>
            <a:off x="0" y="-144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58920" y="3284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Black"/>
              </a:rPr>
              <a:t>¡GRACIA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50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63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1413000"/>
            <a:ext cx="7921440" cy="285228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so de Exposici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PUESTA DE SOLUCIÓN A PROBLEMAS EN SISTEMAS PETROLEROS EN NEUQUEN Y MENDOZA – UNA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55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630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19280" y="1341360"/>
            <a:ext cx="5977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ato    Público – Priv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idades Públic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versidad Nacional de Tucum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versidad Nacional de La Pl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idad Privad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SOL YP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io Kohen &amp; Asoci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60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630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1557360"/>
            <a:ext cx="71298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cut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partamento de Bioingeniería (FACET / U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rección y coordinación general.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. Carmelo José Felice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stema MULTIBAC  y QUANTIBAC(Patentad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ntro de Investigación y Desarrollo en Fermentaciones Industriales (CINDEFI / UNL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icio en técnicas moleculares.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a María Teresa del Panno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65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630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1197000"/>
            <a:ext cx="770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stemas petroler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ncón de Los Sauces y El Portón en Neuqué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rrancas en Mendoza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crobiológico en el sistema de recuperación secunda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los sistemas petroler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olución propue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rvicio de Administración microbiológic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incluye diferentes estrategias de diagnóstico, evaluación de soluciones en laboratorio y campo, un plan de en forma periódica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70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630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1197000"/>
            <a:ext cx="7704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poner de un servicio y metodología sistemática de control microbiológico en los sistema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tracción y recuperación secundaria de crudo por inyección de agua de YPF S.A los sistemas petroleros.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minuir a un mínimo posible los problemas ocasionados por el bioensuciamiento debido a la presencia de microorganismos planctónicos y sésiles en los sistem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75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1413000"/>
            <a:ext cx="9144000" cy="6630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1197000"/>
            <a:ext cx="770400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ategias para el diagnóstico y solución del problema microbiológico en los tres sistemas petroleros (RDLS, EP y B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-independientes (análisis genéticos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strategia consiste en el empleo de diferentes métodos genéticos para la detección y cuantificación de los microorganismos viables cultivables y no-cultivables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adrid y Felic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2005) presentes en los sistem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80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227160"/>
            <a:ext cx="9144000" cy="663084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258920" y="907920"/>
            <a:ext cx="6192720" cy="5256360"/>
            <a:chOff x="1258920" y="907920"/>
            <a:chExt cx="6192720" cy="5256360"/>
          </a:xfrm>
        </p:grpSpPr>
        <p:sp>
          <p:nvSpPr>
            <p:cNvPr id="84" name=""/>
            <p:cNvSpPr/>
            <p:nvPr/>
          </p:nvSpPr>
          <p:spPr>
            <a:xfrm>
              <a:off x="1258920" y="907920"/>
              <a:ext cx="6192720" cy="525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32040" y="1118160"/>
              <a:ext cx="4553640" cy="4941000"/>
              <a:chOff x="1832040" y="1118160"/>
              <a:chExt cx="4553640" cy="4941000"/>
            </a:xfrm>
          </p:grpSpPr>
          <p:sp>
            <p:nvSpPr>
              <p:cNvPr id="86" name=""/>
              <p:cNvSpPr/>
              <p:nvPr/>
            </p:nvSpPr>
            <p:spPr>
              <a:xfrm>
                <a:off x="3552120" y="1118160"/>
                <a:ext cx="7146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840" rIns="8784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900" spc="-1" strike="noStrike">
                    <a:solidFill>
                      <a:srgbClr val="ffffff"/>
                    </a:solidFill>
                    <a:latin typeface="Comic Sans MS"/>
                  </a:rPr>
                  <a:t>Muestra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069360" y="1658160"/>
                <a:ext cx="1680480" cy="5108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840" rIns="8784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Comic Sans MS"/>
                  </a:rPr>
                  <a:t>Extracción del ADN/ARN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431880" y="2433960"/>
                <a:ext cx="955440" cy="408600"/>
              </a:xfrm>
              <a:prstGeom prst="rect">
                <a:avLst/>
              </a:prstGeom>
              <a:noFill/>
              <a:ln w="3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840" rIns="87840" tIns="43920" bIns="43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Comic Sans MS"/>
                  </a:rPr>
                  <a:t>Reacción PCR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47160" y="2905200"/>
                <a:ext cx="524160" cy="315000"/>
              </a:xfrm>
              <a:prstGeom prst="rect">
                <a:avLst/>
              </a:prstGeom>
              <a:noFill/>
              <a:ln w="3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840" rIns="8784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Comic Sans MS"/>
                  </a:rPr>
                  <a:t>DGGE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4511160" y="2795040"/>
                <a:ext cx="834480" cy="635760"/>
                <a:chOff x="4511160" y="2795040"/>
                <a:chExt cx="834480" cy="635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511160" y="2795040"/>
                  <a:ext cx="834480" cy="6357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4718880" y="2921400"/>
                  <a:ext cx="69840" cy="446040"/>
                  <a:chOff x="4718880" y="2921400"/>
                  <a:chExt cx="69840" cy="4460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4720320" y="2921400"/>
                    <a:ext cx="68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4720320" y="3111840"/>
                    <a:ext cx="68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4718880" y="32396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718880" y="33674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4928760" y="292140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927320" y="3240000"/>
                  <a:ext cx="6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927320" y="3367800"/>
                  <a:ext cx="6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5135760" y="2921400"/>
                  <a:ext cx="69840" cy="446040"/>
                  <a:chOff x="5135760" y="2921400"/>
                  <a:chExt cx="69840" cy="4460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137200" y="2921400"/>
                    <a:ext cx="68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137200" y="3111840"/>
                    <a:ext cx="68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135760" y="32396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135760" y="33674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05" name=""/>
              <p:cNvSpPr/>
              <p:nvPr/>
            </p:nvSpPr>
            <p:spPr>
              <a:xfrm>
                <a:off x="2962800" y="3430800"/>
                <a:ext cx="206784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840" rIns="8784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900" spc="-1" strike="noStrike">
                    <a:solidFill>
                      <a:srgbClr val="000000"/>
                    </a:solidFill>
                    <a:latin typeface="Arial"/>
                  </a:rPr>
                  <a:t>Clonado y secuenciación de las bandas. 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900" spc="-1" strike="noStrike">
                    <a:solidFill>
                      <a:srgbClr val="000000"/>
                    </a:solidFill>
                    <a:latin typeface="Arial"/>
                  </a:rPr>
                  <a:t>IDENTIFICACION de poblaciones bacterianas relevantes.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1832040" y="4692600"/>
                <a:ext cx="1874160" cy="1366560"/>
                <a:chOff x="1832040" y="4692600"/>
                <a:chExt cx="1874160" cy="13665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832040" y="4692600"/>
                  <a:ext cx="1874160" cy="414360"/>
                </a:xfrm>
                <a:prstGeom prst="rect">
                  <a:avLst/>
                </a:prstGeom>
                <a:noFill/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840" rIns="8784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900" spc="-1" strike="noStrike">
                      <a:solidFill>
                        <a:srgbClr val="000000"/>
                      </a:solidFill>
                      <a:latin typeface="Comic Sans MS"/>
                    </a:rPr>
                    <a:t>Diseño de iniciadores (primers PCR)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851480" y="5323320"/>
                  <a:ext cx="1834920" cy="735840"/>
                </a:xfrm>
                <a:prstGeom prst="rect">
                  <a:avLst/>
                </a:prstGeom>
                <a:noFill/>
                <a:ln w="284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840" rIns="8784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900" spc="-1" strike="noStrike">
                      <a:solidFill>
                        <a:srgbClr val="000000"/>
                      </a:solidFill>
                      <a:latin typeface="Comic Sans MS"/>
                    </a:rPr>
                    <a:t>RT-PCR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900" spc="-1" strike="noStrike">
                      <a:solidFill>
                        <a:srgbClr val="000000"/>
                      </a:solidFill>
                      <a:latin typeface="Comic Sans MS"/>
                    </a:rPr>
                    <a:t>Identificación y cuantificación de las poblaciones</a:t>
                  </a:r>
                  <a:r>
                    <a:rPr b="0" lang="es-MX" sz="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s-MX" sz="900" spc="-1" strike="noStrike">
                      <a:solidFill>
                        <a:srgbClr val="000000"/>
                      </a:solidFill>
                      <a:latin typeface="Comic Sans MS"/>
                    </a:rPr>
                    <a:t>relevantes.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511520" y="4722120"/>
                <a:ext cx="1874160" cy="1336680"/>
                <a:chOff x="4511520" y="4722120"/>
                <a:chExt cx="1874160" cy="1336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511520" y="4722120"/>
                  <a:ext cx="1874160" cy="414360"/>
                </a:xfrm>
                <a:prstGeom prst="rect">
                  <a:avLst/>
                </a:pr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840" rIns="8784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900" spc="-1" strike="noStrike">
                      <a:solidFill>
                        <a:srgbClr val="000000"/>
                      </a:solidFill>
                      <a:latin typeface="Comic Sans MS"/>
                    </a:rPr>
                    <a:t>Diseño de sondas para hibridización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669200" y="5322960"/>
                  <a:ext cx="1558800" cy="735840"/>
                </a:xfrm>
                <a:prstGeom prst="rect">
                  <a:avLst/>
                </a:pr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840" rIns="8784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900" spc="-1" strike="noStrike">
                      <a:solidFill>
                        <a:srgbClr val="000000"/>
                      </a:solidFill>
                      <a:latin typeface="Comic Sans MS"/>
                    </a:rPr>
                    <a:t>FISH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900" spc="-1" strike="noStrike">
                      <a:solidFill>
                        <a:srgbClr val="000000"/>
                      </a:solidFill>
                      <a:latin typeface="Comic Sans MS"/>
                    </a:rPr>
                    <a:t>Identificación y cuantificación de poblaciones </a:t>
                  </a:r>
                  <a:r>
                    <a:rPr b="0" lang="es-MX" sz="1000" spc="-1" strike="noStrike">
                      <a:solidFill>
                        <a:srgbClr val="000000"/>
                      </a:solidFill>
                      <a:latin typeface="Comic Sans MS"/>
                    </a:rPr>
                    <a:t>relevant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3909600" y="1433520"/>
                <a:ext cx="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09600" y="2169360"/>
                <a:ext cx="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796200" y="3220560"/>
                <a:ext cx="952920" cy="21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24480" y="4272120"/>
                <a:ext cx="357120" cy="209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49840" y="4272120"/>
                <a:ext cx="357120" cy="209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6419520" y="5323320"/>
              <a:ext cx="917280" cy="4204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Sondas comercial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189840" y="542844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87400" y="511308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34840" y="511308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95280" y="260280"/>
            <a:ext cx="3143160" cy="642960"/>
            <a:chOff x="395280" y="260280"/>
            <a:chExt cx="3143160" cy="642960"/>
          </a:xfrm>
        </p:grpSpPr>
        <p:pic>
          <p:nvPicPr>
            <p:cNvPr id="122" name="Picture 1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7747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"/>
            <p:cNvPicPr/>
            <p:nvPr/>
          </p:nvPicPr>
          <p:blipFill>
            <a:blip r:embed="rId2"/>
            <a:stretch/>
          </p:blipFill>
          <p:spPr>
            <a:xfrm>
              <a:off x="1252440" y="546120"/>
              <a:ext cx="228600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1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6308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547640" y="1341360"/>
            <a:ext cx="5832720" cy="3888000"/>
            <a:chOff x="1547640" y="1341360"/>
            <a:chExt cx="5832720" cy="3888000"/>
          </a:xfrm>
        </p:grpSpPr>
        <p:sp>
          <p:nvSpPr>
            <p:cNvPr id="126" name=""/>
            <p:cNvSpPr/>
            <p:nvPr/>
          </p:nvSpPr>
          <p:spPr>
            <a:xfrm>
              <a:off x="1641960" y="2925360"/>
              <a:ext cx="723960" cy="432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ffffff"/>
                  </a:solidFill>
                  <a:latin typeface="Comic Sans MS"/>
                </a:rPr>
                <a:t>Muestra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68520" y="2637360"/>
              <a:ext cx="2353320" cy="83196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Comic Sans MS"/>
                </a:rPr>
                <a:t>Enriquecimiento/aislamient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19960" y="2205360"/>
              <a:ext cx="122796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Comic Sans MS"/>
                </a:rPr>
                <a:t>Extracción del DNA de los cultivos </a:t>
              </a:r>
              <a:r>
                <a:rPr b="0" lang="es-MX" sz="1000" spc="-1" strike="noStrike">
                  <a:solidFill>
                    <a:srgbClr val="000000"/>
                  </a:solidFill>
                  <a:latin typeface="Comic Sans MS"/>
                </a:rPr>
                <a:t>bacterianos puro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45320" y="1789920"/>
              <a:ext cx="920880" cy="1135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X X X X X X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X X X X X X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X X X X X X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2400" y="2781360"/>
              <a:ext cx="891360" cy="59256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Comic Sans MS"/>
                </a:rPr>
                <a:t>Marcada </a:t>
              </a:r>
              <a:r>
                <a:rPr b="0" lang="es-MX" sz="1000" spc="-1" strike="noStrike">
                  <a:solidFill>
                    <a:srgbClr val="000000"/>
                  </a:solidFill>
                  <a:latin typeface="Comic Sans MS"/>
                </a:rPr>
                <a:t>(O)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63960" y="1485360"/>
              <a:ext cx="6375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Comic Sans MS"/>
                </a:rPr>
                <a:t>Filtro maestr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7640" y="1341360"/>
              <a:ext cx="5832720" cy="388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49880" y="1773000"/>
              <a:ext cx="184176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Técnica cultivo-dependient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412880" y="3950280"/>
              <a:ext cx="2660400" cy="1152000"/>
              <a:chOff x="4412880" y="3950280"/>
              <a:chExt cx="2660400" cy="115200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2880" y="4017240"/>
                <a:ext cx="1534680" cy="1008000"/>
              </a:xfrm>
              <a:prstGeom prst="rect">
                <a:avLst/>
              </a:prstGeom>
              <a:noFill/>
              <a:ln w="381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840" rIns="8784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800" spc="-1" strike="noStrike">
                    <a:solidFill>
                      <a:srgbClr val="000000"/>
                    </a:solidFill>
                    <a:latin typeface="Comic Sans MS"/>
                  </a:rPr>
                  <a:t>RSGP: Identificación y cuantificación de poblaciones bacterianas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52400" y="3950280"/>
                <a:ext cx="920880" cy="1152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r>
                  <a:rPr b="1" lang="es-MX" sz="1100" spc="-1" strike="noStrike">
                    <a:solidFill>
                      <a:srgbClr val="000000"/>
                    </a:solidFill>
                    <a:latin typeface="Arial"/>
                  </a:rPr>
                  <a:t> O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r>
                  <a:rPr b="1" lang="es-MX" sz="1100" spc="-1" strike="noStrike">
                    <a:solidFill>
                      <a:srgbClr val="000000"/>
                    </a:solidFill>
                    <a:latin typeface="Arial"/>
                  </a:rPr>
                  <a:t> O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000000"/>
                    </a:solidFill>
                    <a:latin typeface="Arial"/>
                  </a:rPr>
                  <a:t>O O O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 X </a:t>
                </a:r>
                <a:r>
                  <a:rPr b="1" lang="es-MX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s-MX" sz="1100" spc="-1" strike="noStrike">
                    <a:solidFill>
                      <a:srgbClr val="000000"/>
                    </a:solidFill>
                    <a:latin typeface="Arial"/>
                  </a:rPr>
                  <a:t>O O O O</a:t>
                </a:r>
                <a:r>
                  <a:rPr b="0" lang="es-MX" sz="1100" spc="-1" strike="noStrike">
                    <a:solidFill>
                      <a:srgbClr val="000000"/>
                    </a:solidFill>
                    <a:latin typeface="Arial"/>
                  </a:rPr>
                  <a:t> X 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rot="5443800">
              <a:off x="6275880" y="3559680"/>
              <a:ext cx="897480" cy="204480"/>
            </a:xfrm>
            <a:custGeom>
              <a:avLst/>
              <a:gdLst>
                <a:gd name="textAreaLeft" fmla="*/ 140040 w 897480"/>
                <a:gd name="textAreaRight" fmla="*/ 785520 w 897480"/>
                <a:gd name="textAreaTop" fmla="*/ 51120 h 204480"/>
                <a:gd name="textAreaBottom" fmla="*/ 153360 h 20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0:29:10Z</dcterms:created>
  <dc:creator>WinuE</dc:creator>
  <dc:description/>
  <dc:language>en-US</dc:language>
  <cp:lastModifiedBy>a</cp:lastModifiedBy>
  <dcterms:modified xsi:type="dcterms:W3CDTF">2008-05-29T16:40:30Z</dcterms:modified>
  <cp:revision>22</cp:revision>
  <dc:subject/>
  <dc:title>Diapositiva 1</dc:title>
</cp:coreProperties>
</file>